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2DD-F2DF-47AA-9B62-76C650D4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6FD-6BDB-4E7A-B568-FC50599F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E34-9402-4F27-8177-56406454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989-6042-49EC-BB57-0942A66A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048-BAF5-486C-8620-BC41918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28B-D86F-44A1-8044-44F7D95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4EC-4288-4E53-9B55-2D3ED9F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E76-E23C-4E4F-B6B8-E1E3B42D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A3C-DCA7-4FEE-B0E1-9DC7D58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05C-5E38-484F-B06D-39AB7F8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170-54B6-480A-BB06-4471447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378-81B1-46FC-8EF3-CFC3107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482-335C-4431-9461-1330ABE104B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b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22332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유선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XML,XHTML,VRM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xml : xml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이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한계를 극복하고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sg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복잠함을 해결해서 모은 것이라 할 수 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과 다른점은 사용자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태그를 정의해서 사용할 수 있다는 것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또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x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은 서로간에 다른 플랫폼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운영체제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?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서 사용될 수 있기 때문에 특정 운영체제나 환경에 얽매지 않을 수 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xhtml :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많은 이들은 이것을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5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라고 부른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왜냐하면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기능에 확장성과 이식성등이 추가된 것으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보다 더 정교한 모습을 보인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과의 차이점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x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처럼 새로운 태그를 추가 할 수 있게 해준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또한 엄격한 코딩규칙을 요구하고 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태그를 열었으면 반드시 닫아야한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vrml : vr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3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차원 이미지 장면들을 묘사하기 위한 언어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vr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을 이용하면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명백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3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차원 장면들을 사용자가 보고 또 상호 작용할 수 있도록 시각적 이미지들을 만들어 웹에 집어넣을 수 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interne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하여 구체적으로 들어가기 전에 순차적으로 상위개념이라고 느끼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인터넷을 간단히 짚어본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  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인터넷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인터넷이란 전세계적인 네트웍시스템이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어떤 사용자든지 그가 사용 권한이 있다면 다른 컴퓨터에 접속헤 정보를 얻을수 있는 네트웍의 네트웍이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이것의 시초는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1969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년 미정부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`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아르파넷‘ 이며 이것의 목적은 메시지가 한 방향으로 전달되지 않고 여러방형으로 움직일수 있기 때문에 어떤 재해로부터 내크웍의 일부가 파괴된 상태로도 제 기능을 발휘 할 수 있는 것이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인터넷은 오늘날 수억의 인구가 사용하고 있으며 이것의 기반 통신 프로토콜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TCP/IP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를 사용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이것중에 가장 많이 사용되는 것이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www(world wide web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이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w3c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웹의 완전한 잠재 가능성을 실현하기 위해 존재하며 웹의 진화를 위한 표준 각종규격들과 소프트웨어의 생산을 통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www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의 상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운영성증진을 위한 단체이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많은 연구가 이루어지며 아래서 이야기할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sgml,html,xml,dhtml,xhtml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등은 이곳에서 연구되고 개발 된 것이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비록 운영자금은 기업들로부터 지원 받지만 성격은 중립적인 단체로 여기서 개발되는 모든 소프트웨어는 공개된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 (www.w3c.org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라는 주소에서 볼 수 있듯이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com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이 아니라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org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이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  <a:ea typeface="한양신명조"/>
              </a:rPr>
              <a:t>. ^^;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3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www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은 인터넷의 많은 서비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고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,ftp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텔넷 등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...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들중 가장 최근에 개발된 멀티미디어 서비스로서 이전의 문자위주의 기존 서비스들과는 달리 그래픽 음성 동영상이 가능한 하이퍼텍스트라는 방법으로 검색할 수 있게 해준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이것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에 의해 표현되며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http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프로토콜을 사용해 전송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고퍼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ftp telne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고퍼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웹 서비스가 개발되기 이전까지의 가장 쉬운 인터페이스로 사용 일종의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ftp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검색엔진이라고 생각하면 쉬울 것임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고퍼는 정보의 내용을 주제별 내용별로 구분하여 메뉴로 구성  함으로써 고퍼 서버 내에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ftp,telnet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등의 기능을 사용할 수 있음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FTP(File Transfer Protocol) : http,smtp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등과 함께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TCP/IP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응용 프로토콜중 하나로 주로 파일을 전송하거나 수신할 때 사용한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텔넷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(telnet) :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텔넷은 자신이 사용권한을 가지고 있다는 전제하에 다른사람 또는 자신의 컴퓨터를 원격으로 관리 할 수 있게 한 것으로 이것도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TCP/IP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기반의 프로토콜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GM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sgml 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이것은 문서의 태그셋이나 마크업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매크로 비슷함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언어를 어떻게 정의할 것인가에 대한 표준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이러한 형식 자체는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sgml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은 문서 언어 그 자체에 들어있는 것이 아니며 다만 어떻게 지정할 것인가에 대한 설명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 :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웹 브라우저 상에 표시된 마크업이나 파일 내에 들어간 코드들의 집합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이것들은 웹 상에서 문서를 어떻게 표시할지를 나타내며 단문 문서 편집기만으로도 작성이 가능하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제목 문단 리스트 하이퍼링크 등은 모두 태그를 사용하여 구조화시킨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4.0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w3c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 의해 추천되었지만 웹 브라우저를 개발하는 여러 회사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마이크로소프트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,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넷스케이프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 의해서 각 회사마다 약간씩 다른 확장기능을 제공하며 이 확장 기능은 표준화되지 않았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또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40.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서 이전과는 달라진 주요기능은 동적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(Dhtml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을 지원한다는 것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DHTM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dhtml : 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 비하여 많은 부분에서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`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부드러워졌다‘라는 표현이 적절하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d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은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디럭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이 아니다 다이나믹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-_-;;)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애니메이션 적인 부분이 더 강화되었고 사용자간에 더 민감한 웹페이지를 만들 수 있게 되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예를 들자면 웹써핑을 하다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`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이 웹페이지는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Explorer 4.0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에서 최적화 되었습니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‘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라는 문구를 본적이 있을 것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바로 이런 것이 다이나믹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의 특징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다른 차이점은 이미지나 그림파일은 데스크탑의 응용 프로그램을 사용하듯이 끌어서 다른페이지로 이동이 가능한 것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확실한 것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html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보다 더 편하게 발전했다는 것이다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  <a:ea typeface="한양신명조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9:37:30Z</dcterms:created>
  <dc:creator>kimmk</dc:creator>
  <dc:description/>
  <dc:language>en-US</dc:language>
  <cp:lastModifiedBy>kimmk</cp:lastModifiedBy>
  <dcterms:modified xsi:type="dcterms:W3CDTF">2002-10-30T09:54:09Z</dcterms:modified>
  <cp:revision>1</cp:revision>
  <dc:subject/>
  <dc:title>Web </dc:title>
</cp:coreProperties>
</file>